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3301-1564-4BFC-B574-4AFE1A2DF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64FE-BEF6-4B7A-BB14-56C12818C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362F-DBAB-494B-A2F8-F3732FC6B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16D0-8709-4E0F-BCDA-2DF3EF3D7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095F-3599-4464-8BDB-6E61E37D8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B182-1CC9-4302-95A7-8FBC5059B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BEB1-B212-46ED-9C13-F1A96C035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1284-2049-4788-B99A-FA27945E7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F63B-20A4-462D-B132-5C0FA85BA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970F-CA77-4096-B18C-16253867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A576-5098-4C0E-8ACF-9E070D053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F6CA-7122-47C5-9032-BAB370170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DC224-970D-4073-B931-8177D7334A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Christmas Action Card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5257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fighting a burglar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Content Placeholder 3" descr="E:\cliparts\H to I\Clip Art\Holidays\Christmas\Santa &amp; Reindeer (Sa - Sa)\Santa &amp; Burglar.wmf"/>
          <p:cNvPicPr/>
          <p:nvPr/>
        </p:nvPicPr>
        <p:blipFill>
          <a:blip r:embed="rId1"/>
          <a:stretch/>
        </p:blipFill>
        <p:spPr>
          <a:xfrm>
            <a:off x="2286000" y="228600"/>
            <a:ext cx="4114800" cy="50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5333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playing ping pong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10" descr="E:\cliparts\H to I\Clip Art\Holidays\Christmas\Santa &amp; Reindeer (A - R)\Playing Ping Pong.wmf"/>
          <p:cNvPicPr/>
          <p:nvPr/>
        </p:nvPicPr>
        <p:blipFill>
          <a:blip r:embed="rId1"/>
          <a:stretch/>
        </p:blipFill>
        <p:spPr>
          <a:xfrm>
            <a:off x="1752480" y="533520"/>
            <a:ext cx="594360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5562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Playing checker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11" descr="E:\cliparts\H to I\Clip Art\Holidays\Christmas\Santa &amp; Reindeer (A - R)\Playing Checkers.wmf"/>
          <p:cNvPicPr/>
          <p:nvPr/>
        </p:nvPicPr>
        <p:blipFill>
          <a:blip r:embed="rId1"/>
          <a:stretch/>
        </p:blipFill>
        <p:spPr>
          <a:xfrm>
            <a:off x="2133720" y="380880"/>
            <a:ext cx="53640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5486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Playing the guitar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14" descr="E:\cliparts\H to I\Clip Art\Holidays\Christmas\Santa &amp; Reindeer (A - R)\Rock 'N Roll - Santa.wmf"/>
          <p:cNvPicPr/>
          <p:nvPr/>
        </p:nvPicPr>
        <p:blipFill>
          <a:blip r:embed="rId1"/>
          <a:stretch/>
        </p:blipFill>
        <p:spPr>
          <a:xfrm>
            <a:off x="2133720" y="380880"/>
            <a:ext cx="495288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540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playing golf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E:\cliparts\H to I\Clip Art\Holidays\Christmas\Santa &amp; Reindeer (Sa - Z)\Santa Golfing 1.wmf"/>
          <p:cNvPicPr/>
          <p:nvPr/>
        </p:nvPicPr>
        <p:blipFill>
          <a:blip r:embed="rId1"/>
          <a:stretch/>
        </p:blipFill>
        <p:spPr>
          <a:xfrm>
            <a:off x="2133720" y="228600"/>
            <a:ext cx="4876560" cy="49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5333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singing a song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6" descr="E:\cliparts\H to I\Clip Art\Holidays\Christmas\General (A - Ca)\Candle - Singing.wmf"/>
          <p:cNvPicPr/>
          <p:nvPr/>
        </p:nvPicPr>
        <p:blipFill>
          <a:blip r:embed="rId1"/>
          <a:stretch/>
        </p:blipFill>
        <p:spPr>
          <a:xfrm>
            <a:off x="2743200" y="380880"/>
            <a:ext cx="2863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5562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decorating a tree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E:\cliparts\H to I\Clip Art\Holidays\Christmas\Trees &amp; Ornaments\Tree 75.wmf"/>
          <p:cNvPicPr/>
          <p:nvPr/>
        </p:nvPicPr>
        <p:blipFill>
          <a:blip r:embed="rId1"/>
          <a:stretch/>
        </p:blipFill>
        <p:spPr>
          <a:xfrm>
            <a:off x="2362320" y="304920"/>
            <a:ext cx="3962160" cy="51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5333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Singing carol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12" descr="E:\cliparts\H to I\Clip Art\Holidays\Christmas\General (A - Ca)\Carolers 3.wmf"/>
          <p:cNvPicPr/>
          <p:nvPr/>
        </p:nvPicPr>
        <p:blipFill>
          <a:blip r:embed="rId1"/>
          <a:stretch/>
        </p:blipFill>
        <p:spPr>
          <a:xfrm>
            <a:off x="1523880" y="393840"/>
            <a:ext cx="5715000" cy="43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486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reading a letter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E:\cliparts\H to I\Clip Art\Holidays\Christmas\Santa &amp; Reindeer (Sa - Sa)\Santa &amp; List 2.wmf"/>
          <p:cNvPicPr/>
          <p:nvPr/>
        </p:nvPicPr>
        <p:blipFill>
          <a:blip r:embed="rId1"/>
          <a:stretch/>
        </p:blipFill>
        <p:spPr>
          <a:xfrm>
            <a:off x="1295280" y="609480"/>
            <a:ext cx="586764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5486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playing basketbal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E:\cliparts\H to I\Clip Art\Holidays\Christmas\Santa &amp; Reindeer (Sa - Z)\Santa Playing Basketball.wmf"/>
          <p:cNvPicPr/>
          <p:nvPr/>
        </p:nvPicPr>
        <p:blipFill>
          <a:blip r:embed="rId1"/>
          <a:stretch/>
        </p:blipFill>
        <p:spPr>
          <a:xfrm>
            <a:off x="2438280" y="685800"/>
            <a:ext cx="43466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5181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making a snowperso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6" descr="E:\cliparts\H to I\Clip Art\Holidays\Christmas\Santa &amp; Reindeer (Sa - Sa)\Santa &amp; Snowman.wmf"/>
          <p:cNvPicPr/>
          <p:nvPr/>
        </p:nvPicPr>
        <p:blipFill>
          <a:blip r:embed="rId1"/>
          <a:stretch/>
        </p:blipFill>
        <p:spPr>
          <a:xfrm>
            <a:off x="1371600" y="0"/>
            <a:ext cx="609588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carrying a boy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E:\cliparts\H to I\Clip Art\Holidays\Christmas\Santa &amp; Reindeer (Sa - Sa)\Santa &amp; Child 1.wmf"/>
          <p:cNvPicPr/>
          <p:nvPr/>
        </p:nvPicPr>
        <p:blipFill>
          <a:blip r:embed="rId1"/>
          <a:stretch/>
        </p:blipFill>
        <p:spPr>
          <a:xfrm>
            <a:off x="2286000" y="533520"/>
            <a:ext cx="4443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486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talking to a boy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E:\cliparts\H to I\Clip Art\Holidays\Christmas\Santa &amp; Reindeer (Sa - Sa)\Santa &amp; Boy.wmf"/>
          <p:cNvPicPr/>
          <p:nvPr/>
        </p:nvPicPr>
        <p:blipFill>
          <a:blip r:embed="rId1"/>
          <a:stretch/>
        </p:blipFill>
        <p:spPr>
          <a:xfrm>
            <a:off x="1828800" y="0"/>
            <a:ext cx="5105520" cy="56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6T03:51:02Z</dcterms:created>
  <dc:creator>kisito</dc:creator>
  <dc:description/>
  <dc:language>en-US</dc:language>
  <cp:lastModifiedBy> </cp:lastModifiedBy>
  <dcterms:modified xsi:type="dcterms:W3CDTF">2009-02-18T10:12:07Z</dcterms:modified>
  <cp:revision>17</cp:revision>
  <dc:subject/>
  <dc:title>Christmas Action Cards</dc:title>
</cp:coreProperties>
</file>